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232-0885-43BD-94E4-275202FB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E13-C341-4E40-A4E0-F18BB1DE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DB8-566B-4377-B434-368AC4CA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1AC-0942-4628-95BF-9001C95D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C19-F676-41F0-8190-93312EB5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0D0-B33C-48C7-B0E0-038BCE13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A4D-8700-446D-BB73-33512196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7DF-58C7-4810-85C6-EAD1E6DB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E06-5446-4BD8-AF38-7D318541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4DBE-DF2C-4E28-825F-1AB5CB1A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44D-BB9D-4AED-9AB5-74F79923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3C4-C1AF-4B61-B03A-79962241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FC71-80CC-4B0A-AA6F-BAD11FCD8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Выноска-облако 6"/>
          <p:cNvSpPr/>
          <p:nvPr/>
        </p:nvSpPr>
        <p:spPr>
          <a:xfrm>
            <a:off x="2143080" y="2205000"/>
            <a:ext cx="6389640" cy="1224000"/>
          </a:xfrm>
          <a:prstGeom prst="cloudCallout">
            <a:avLst>
              <a:gd name="adj1" fmla="val -33509"/>
              <a:gd name="adj2" fmla="val 79412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  <a:ea typeface="Arial"/>
              </a:rPr>
              <a:t>Восприяти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68000" y="2420640"/>
            <a:ext cx="5759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Amatic SC"/>
                <a:ea typeface="Amatic SC"/>
              </a:rPr>
              <a:t>Я познаю мир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3960720" y="4581360"/>
            <a:ext cx="45720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оставила: Щепелина Валерия Геннад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4031640" y="609300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Яровое 20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Какие фигуры вы увидел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5708520" cy="36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Обоня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4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60339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Обоня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5278320" cy="3557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Чем пахнут миньо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4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60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Вку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5472000" cy="410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Вку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4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5351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Вку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2987640" y="2276640"/>
            <a:ext cx="5145120" cy="377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Вку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4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5375160" cy="3024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Синестез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Объект 6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5556240" cy="312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Синестез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Объект 4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5903640" cy="3108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Органы чувст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5641920" cy="3987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Спасибо вс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Объект 3" descr=""/>
          <p:cNvPicPr/>
          <p:nvPr/>
        </p:nvPicPr>
        <p:blipFill>
          <a:blip r:embed="rId1"/>
          <a:stretch/>
        </p:blipFill>
        <p:spPr>
          <a:xfrm>
            <a:off x="2916360" y="3068640"/>
            <a:ext cx="5875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Осяз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4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5746680" cy="4309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Осяз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2195640" y="3141720"/>
            <a:ext cx="7188120" cy="33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Слу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6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5798880" cy="4349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Слышать зву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3743280" cy="416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Чувствовать равновес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5740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Зр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5965560" cy="417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Смотре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4" descr=""/>
          <p:cNvPicPr/>
          <p:nvPr/>
        </p:nvPicPr>
        <p:blipFill>
          <a:blip r:embed="rId1"/>
          <a:stretch/>
        </p:blipFill>
        <p:spPr>
          <a:xfrm>
            <a:off x="5435640" y="4908600"/>
            <a:ext cx="3708360" cy="194148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3" descr=""/>
          <p:cNvPicPr/>
          <p:nvPr/>
        </p:nvPicPr>
        <p:blipFill>
          <a:blip r:embed="rId2"/>
          <a:stretch/>
        </p:blipFill>
        <p:spPr>
          <a:xfrm>
            <a:off x="3132000" y="1844640"/>
            <a:ext cx="5854680" cy="3013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07:21:43Z</dcterms:created>
  <dc:creator>Пользователь Windows</dc:creator>
  <dc:description/>
  <dc:language>en-US</dc:language>
  <cp:lastModifiedBy>Валерия Геннадьевна</cp:lastModifiedBy>
  <dcterms:modified xsi:type="dcterms:W3CDTF">2025-01-14T09:10:31Z</dcterms:modified>
  <cp:revision>14</cp:revision>
  <dc:subject/>
  <dc:title>Восприятие.</dc:title>
</cp:coreProperties>
</file>